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9A48D-97BA-49E4-B88D-3E3967B4E96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309E-1561-49DE-B13C-8DC215BAC4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255680"/>
            <a:ext cx="815328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用“进一法”解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中的数学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解决“进一法”的变式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用“进一法”解决图形中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6"/>
          <p:cNvSpPr/>
          <p:nvPr/>
        </p:nvSpPr>
        <p:spPr>
          <a:xfrm>
            <a:off x="1119240" y="1763640"/>
            <a:ext cx="70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  <a:tab algn="l" pos="9468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同学们去草莓园摘草莓。低年级同学共摘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中年级同学共摘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高年级同学共摘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。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草莓装一个筐，装完这些草莓一共需要多少个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6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矩形 2"/>
          <p:cNvSpPr/>
          <p:nvPr/>
        </p:nvSpPr>
        <p:spPr>
          <a:xfrm>
            <a:off x="2108160" y="4002120"/>
            <a:ext cx="603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-8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10÷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……1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2440" indent="-82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装完这些草莓一共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"/>
          <p:cNvGrpSpPr/>
          <p:nvPr/>
        </p:nvGrpSpPr>
        <p:grpSpPr>
          <a:xfrm>
            <a:off x="965160" y="1276200"/>
            <a:ext cx="7229520" cy="1935360"/>
            <a:chOff x="965160" y="1276200"/>
            <a:chExt cx="7229520" cy="1935360"/>
          </a:xfrm>
        </p:grpSpPr>
        <p:sp>
          <p:nvSpPr>
            <p:cNvPr id="91" name="TextBox 36"/>
            <p:cNvSpPr/>
            <p:nvPr/>
          </p:nvSpPr>
          <p:spPr>
            <a:xfrm>
              <a:off x="965160" y="1276200"/>
              <a:ext cx="722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做一扇门要用一块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，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米的木料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木工张师傅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方米的木料，能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扇门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5547240" y="2506680"/>
              <a:ext cx="246708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6"/>
          <p:cNvSpPr/>
          <p:nvPr/>
        </p:nvSpPr>
        <p:spPr>
          <a:xfrm>
            <a:off x="2487600" y="2525760"/>
            <a:ext cx="419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米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×9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72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能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扇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3"/>
          <p:cNvSpPr/>
          <p:nvPr/>
        </p:nvSpPr>
        <p:spPr>
          <a:xfrm>
            <a:off x="990720" y="199404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为了鼓励居民节约用电，电力公司规定按以下的方法计算电费。每月用电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瓦时的，按每千瓦时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计算；每月用电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瓦时的，超过部分按每千瓦时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计算。李大爷家上个月所付电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。你知道他家上个月用电多少千瓦时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96" name="圆角矩形 9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6"/>
          <p:cNvSpPr/>
          <p:nvPr/>
        </p:nvSpPr>
        <p:spPr>
          <a:xfrm>
            <a:off x="2647800" y="1476360"/>
            <a:ext cx="503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角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2×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2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20÷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瓦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瓦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他家上个月用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瓦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0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0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27:29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